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0BD1-1B9F-40C3-98A1-42AEDBEA2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7BF5-E355-4125-99CF-C2F655DBA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2B13-BAC0-4212-8838-B27EBB296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44D9-2770-464D-B1C3-9B66900AF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110DF-0AD8-4007-8231-E5DE579B3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01E08-2C07-460C-8073-F655ADB57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9D30B-8772-4A28-B5E3-0F9844929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3507A-74BC-4C52-A67D-635E06CDD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0588C-822A-45E0-9F44-B39BD3F8B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E1478-4DFD-449E-A082-86D132175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C9D54-7D87-48DE-8A68-992B977E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2993-C393-4CC5-B7E5-FD929707F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E6ACF-45FB-412D-BABC-F5627595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D5FE2-02CB-4700-8233-6280AE65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99B5B-EDCF-4989-BDA9-443DCF35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9BBE9-FD5C-4E0D-AA8B-D1B1F84A0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3222D-62AB-4A09-9B83-720F58EE9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FB1B-4188-48A2-86D7-56383DB28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7469-250C-4670-9CFA-C90E854F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175F-B67C-416B-86C9-8CA3529F9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F719-61D2-416F-B288-9E36F34CC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27DD-206B-4529-AC15-EAEAA536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BF41-89F2-4E88-849A-7694C313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828D-D48B-4F6B-9A71-1912D6A1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583C9-74E9-4654-B65B-4E660B42335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7BF9B-EF20-4D3E-9037-A22BCFBFF2C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0773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Me llamo __________      Clase 6 nh (601)</a:t>
            </a:r>
            <a:br>
              <a:rPr sz="3200"/>
            </a:b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La fecha es el 30 de enero del 2013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7600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e20443"/>
                </a:solidFill>
                <a:latin typeface="Arial"/>
              </a:rPr>
              <a:t>Propósito # 32: 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¿A que hora duerm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e20443"/>
                </a:solidFill>
                <a:latin typeface="Arial"/>
              </a:rPr>
              <a:t>Actividad Inicia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TEXT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s-ES_tradnl" sz="3600" spc="-1" strike="noStrike" u="sng">
                <a:solidFill>
                  <a:srgbClr val="000000"/>
                </a:solidFill>
                <a:uFillTx/>
                <a:latin typeface="Arial"/>
              </a:rPr>
              <a:t>Historieta 6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 p.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27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0066"/>
                </a:solidFill>
                <a:latin typeface="Arial"/>
              </a:rPr>
              <a:t>Tarea # 3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262160"/>
            <a:ext cx="8229600" cy="20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XT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Historieta 5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. 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Historieta 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. 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ORKBOO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leta p. 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0066"/>
                </a:solidFill>
                <a:latin typeface="Arial"/>
              </a:rPr>
              <a:t>Ejercicio: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8T16:27:39Z</dcterms:created>
  <dc:creator>Helen Zumaeta</dc:creator>
  <dc:description/>
  <dc:language>en-US</dc:language>
  <cp:lastModifiedBy>Helen Zumaeta</cp:lastModifiedBy>
  <dcterms:modified xsi:type="dcterms:W3CDTF">2013-01-29T19:44:29Z</dcterms:modified>
  <cp:revision>8</cp:revision>
  <dc:subject/>
  <dc:title>Me llamo __________    Clase 7 IM La fecha es el 2 de diciembre del 2010</dc:title>
</cp:coreProperties>
</file>